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clap.wav" ContentType="audio/x-wav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3.jpeg" ContentType="image/jpeg"/>
  <Override PartName="/ppt/media/gunshot.wav" ContentType="audio/x-wav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042-7DAC-497E-89CD-3506F836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257-3D9F-444F-83A8-F111248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411-9F5A-4048-9796-43B6F194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1A3-E161-4E8A-8ECA-B1C5E93E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16A0-F997-47C3-B16B-9021577A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88C-BB82-4869-95CC-1336D777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8138-0FF0-4765-8FEF-FB9CD140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3254-1D61-47D0-9CE6-CE5A3C60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556-A9BB-4349-923D-C463E39A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BFB-F874-4678-B424-09FBF5B0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0218-7570-43E0-9F46-093221F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C6A-0244-46C4-A1BF-0282C601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C036-7FCF-4B8B-9333-7F428374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D06-F39B-4990-8663-E37F02E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3FF-4F0B-43A9-B2DD-B3758733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F9A-B48A-44C9-9F2F-19D67EE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FBC-C3F0-42B5-B7FD-F69DFAAB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F7F-E360-455E-9F7E-0E29D19D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1EB-B6CE-4CC6-9AB6-86A53F4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A2B-1BE7-4472-9C77-A824E41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6B0-CBE9-4778-96D4-5078EFE2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06F-BA78-48B3-97D2-081CD37E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2C6-95B4-41CD-A533-5E3A9C8E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F5A-AC5B-40ED-B458-EE086DA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210C-C099-4F35-9A58-CD142457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D91-B22E-4123-A1BA-95E7D2CFE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auses of WW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2742840"/>
            <a:ext cx="5181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ificant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1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8 June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 to Austrian throne Franz Ferdinand visits Saraj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of Bosnia, recently grabbed by A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tbed of Slav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59440" y="1752480"/>
            <a:ext cx="3017880" cy="2691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86680" y="4545000"/>
            <a:ext cx="1714320" cy="1703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13360" y="49514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l of the Black Han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ack Hand” terrorists attack the Arch D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mb attempt fails in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vrilo Princip shoots Archduke and wife in the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ns blame Serbia for supporting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64200" y="4191120"/>
            <a:ext cx="149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3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ians, supported by Germany, send Serbia a tough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 agrees to all but two terms of the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mobilises her troops to support 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mands that Russia stands her armi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clares war o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160020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48520" y="22096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mands must be put to Serbia that would be wholly impossible for them to accept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y did Britain get involve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tain h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“friendly agreements” but French and Russians given impression Britain would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chlieff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83160" y="2971800"/>
            <a:ext cx="21924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10080" y="198108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r Edward 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ritish Foreign Secretary  … “There’s some devilry going on in Berli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y’s military plan to defeat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ck out blow” aimed at Franc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 French defences by invasion of Belg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s thought Britain would not interv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4290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Britain’s Re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8- UK had signed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a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tect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also scared of Germany controll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wa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defeat Franc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inate Eur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Britain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K issu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ltimat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Germany to withdraw troops from Belgium.  War declared August 4 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26120" y="1676520"/>
            <a:ext cx="330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the UK to build battle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an attack on their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67440" y="1981080"/>
            <a:ext cx="254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Russia and France to expand their ar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88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7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40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46640" y="3962520"/>
            <a:ext cx="2463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llia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1914 all the major powers were linked by a system of alli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lliances made it more likely that a war would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started, the alliances made it more likely to sp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24280" y="2119320"/>
            <a:ext cx="3889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great powers were competing for colonies / terri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Germany in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strians feared Serbia / Russia in the Balk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s an age when all nations wanted to assert their power an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urope Slavs, aided by Serbia and Russia, wanted to be free of Austrian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73480" y="3886200"/>
            <a:ext cx="1693800" cy="2666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867280" y="4724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’s nation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iser Wilhelm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t up German army and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gressive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rmined to make Germany a top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usted by other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11760" y="3092400"/>
            <a:ext cx="2075040" cy="292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17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rmany must have its place in the 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world belongs to the strong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 Berch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n Prime Min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July Crisis, decided on a very tough ultimatum for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11800" y="1752480"/>
            <a:ext cx="240012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0080" y="5181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re the Serbs to agree to all the demands, this would not be to my li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hmann Holl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 Prime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ve very strong support to Austria during the July crisis while Kaiser was cruising on his y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02440" y="1752480"/>
            <a:ext cx="2027160" cy="2660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72200" y="45655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ustrian demands are moderate.  Any interference by Britain, France and Russia would be followed by incalculable consequ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8:16:01Z</dcterms:created>
  <dc:creator>nshaw</dc:creator>
  <dc:description/>
  <dc:language>en-US</dc:language>
  <cp:lastModifiedBy>SHCMS</cp:lastModifiedBy>
  <dcterms:modified xsi:type="dcterms:W3CDTF">2009-01-27T00:25:59Z</dcterms:modified>
  <cp:revision>17</cp:revision>
  <dc:subject/>
  <dc:title>The Causes of WW1</dc:title>
</cp:coreProperties>
</file>